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C813-B66A-457A-AF48-CC746979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7B3-4B50-4AB2-98AB-19911F75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3F4-C839-414E-9999-C237A61B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655-5B8B-4A98-8322-560E4700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0D7-0525-4510-8A87-458BF6ED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B3E-BE9E-4E03-A1C7-EAD35D3D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D35-E439-40B9-B3F0-F274F1B1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32A-F105-488E-B4BA-DF607C5F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D72-0057-4559-A1A5-34FB28DB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753-CC3B-4AC9-9881-EB4FA341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A4F-B466-4BDB-B72C-767F8046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834-5480-46A5-A7CD-2C07B353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3CD0-1877-4B9E-9A08-9AF1183D1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учение и свойства алки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ение алки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цетилен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важнейшим исходным продуктом в производстве многих органических веществ и материалов. Его получают в больших количествах, используя ряд промышленных метод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ролиз метан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акцию проводят электродуговым способом, пропуская метан между электродами с временем контакта 0,1-0,01 секунды. Столь малое время нагревания обусловлено тем, что ацетилен при такой температуре может разлагаться на углерод и водоро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ролиз этана или этилен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дролиз карбида кальц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интез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омологов ацетиле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именяют следующие мет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гидрогалогенирование дигалогеналканов спиртовым раствором щелочи (щелочь и спирт берутся в избытке). Атомы галогена при этом могут быть расположены как у соседних атомов углерода, так и у одного углеродного ато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 удлинение цепи (алкилирование ацетиленидов) при действии на ацетилениды алкилгалогенида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287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I. Реакции присоеди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    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идрировани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идрирование алкинов осуществляется при нагревании с теми же металлическими катализаторами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d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, что и в случае алкенов, но с меньшей скоростью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º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ропин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°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Pd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;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2•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 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ропен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°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Pd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;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 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ропа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   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алогенировани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лкины обесцвечивают бромную воду (качественная реакция на тройную связь). Реакция галогенирования алкинов протекает медленнее, чем алке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Cº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Br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CHB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B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,2-дибромэтен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Br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CHB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B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,1,2,2-тетрабромэта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    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идрогалогенировани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разующиеся продукты определяются правилом Марковник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º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HBr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B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2- бромпропен -1)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HBr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B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2,2- дибромпропа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4) Гидратация (реакция Кучерова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Присоединение воды осуществляется в присутствии сульфата ртути. Эту реакцию открыл и исследовал в 1881 году М.Г.Кучер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оединение воды идет по правилу Марковникова, образующийся при этом неустойчивый спирт с гидроксильной группой при двойной связи (так называемый, енол) изомеризуется в более стабильное карбонильное соединение - кето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CºCH + 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  ––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HgSO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  [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](енол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l  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ø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–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метилэтилкетон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ll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лучае гидратации собственно ацетилена конечным продуктом является альдеги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CºCH + 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  ––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HgSO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  [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CH](енол)  ®  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 COH (уксусный альдеги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II. Кислотные свойства (реакции замеще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ородные атомы ацетилена способны замещаться металлами с образованием ацетиленидов. Так, при действии на ацетилен металлического натрия или амида натрия образуется ацетиленид натр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CºCH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NaNH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  HCºCNa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цетилениды серебра и меди получают взаимодействием с аммиачными растворами соответственно оксида серебра и хлорида мед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Cº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2[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 ® AgCºCAg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цетилениды серебра, меди обладают исключительной взрывчатостью. Они легко разлагаются при действии соляной кисл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gCºCAg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Cl ® HCº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­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gCl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нным свойством ацетиленидов пользуются при выделении ацетиленовых углеводородов из смесей с другими газ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кисление алки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цетилен и его гомологи окисляются перманганатом калия с расщеплением тройной связи и образованием карбоновых кислот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кины обесцвечивают раствор 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что используется для их качественного определ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7T07:39:33Z</dcterms:created>
  <dc:creator>Андрей</dc:creator>
  <dc:description/>
  <dc:language>en-US</dc:language>
  <cp:lastModifiedBy>Андрей</cp:lastModifiedBy>
  <dcterms:modified xsi:type="dcterms:W3CDTF">2020-08-27T07:49:13Z</dcterms:modified>
  <cp:revision>6</cp:revision>
  <dc:subject/>
  <dc:title>Получение и свойства алкинов</dc:title>
</cp:coreProperties>
</file>